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2AF-45F4-4E98-8F67-D5CF643C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D9F-12FA-43FD-ABD7-C6F21421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DF4-83AE-4CDF-A549-1ABF7E71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967-EAD2-482F-A212-93F00575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19A3-D131-4D1C-A5D5-FF8A13A8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BB9C-9264-41E4-A007-29D9702C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ADF4-5369-4313-91CF-090CE080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7D27-B3E9-49DC-BA9F-6E0BA2CE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3459-8D9C-4483-8780-CE86A36A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D96C-A508-4C19-8329-1D090564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8774-1541-46CF-A851-4D7132AA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2B8-7EE9-4E29-A067-B4A9B037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4FD7-75A1-4579-BA04-930B91AF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34DA-905E-4143-93B0-F2ED0678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414E-94E2-449F-BD1B-F346690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EAC6-78A3-4F54-B2A8-F8EAA59A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F7A1-1427-4D77-9105-2D917048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6BA-5865-42D7-BD4F-1D3783F0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C58-01CE-405C-949A-184637A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06D-581A-41C1-9C67-1ED5D5D9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376-9BFF-4370-8B49-5F3B7874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A22-6BCA-44A2-ABD6-1DE16EE6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641-BDCD-45D8-B81A-DE91E132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D32-6A07-4E3E-8D70-2517013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6D1D-4E01-45A4-A24A-28D36912F95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8EBF-AA82-46A7-BE54-981E702835E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7:43Z</dcterms:modified>
  <cp:revision>41</cp:revision>
  <dc:subject/>
  <dc:title>幻灯片 1</dc:title>
</cp:coreProperties>
</file>